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97D-CDAC-4C86-B315-319E197A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8E1-5D7E-4B72-AE1C-30891D70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C7F-BED4-46BF-8C03-E0D8608A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83D-9A5E-462A-B958-7F1EE7E4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5D6-CF9E-4DE3-A68C-BBB6AFE9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B57-593D-4FC8-A11F-E65D8EBD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B2D-BE5B-4E42-930C-8C542307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384-97F1-4A71-A04C-E0E02C9F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E23-EBC0-46F3-996A-669B7278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874-3599-4358-9E47-C8AC3D5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4E2-E3C6-4B62-A48A-DE879CF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318-253D-4030-9A7B-287EADF2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60E6-A9F9-4E97-909B-BEA125146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cc66"/>
                </a:solidFill>
                <a:latin typeface="Arial"/>
              </a:rPr>
              <a:t>Áttekintés a térinformatika alkalmazásairól</a:t>
            </a:r>
            <a:br>
              <a:rPr sz="4000"/>
            </a:br>
            <a:r>
              <a:rPr b="0" lang="hu-HU" sz="1600" spc="-1" strike="noStrike">
                <a:solidFill>
                  <a:srgbClr val="00cc66"/>
                </a:solidFill>
                <a:latin typeface="Arial"/>
              </a:rPr>
              <a:t>Detrekői-Szabó nyomá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1.Szempon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2. Földügyi információs rendsz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3. Közlekedési információs rendsz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4. Hazai szervez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5. Rendezvények, kiadványok, folyóir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özlekedési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Autonóm rendszer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 saját GPS helymeghatározó rendszer és számítógép, és szoftver, és digitális térké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Flottamenedzselő rends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elymeghatározás és az irányító központtal való kommunikáció kapcsolat,villamos, autóbusz menedzselés, de ide tartozik a személygépkocsik műholdakon alapuló követőrendszere 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Tanácsadó rends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z előző rendszerek együtt, városok közlekedés irányítá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Leltározó rends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elymeghatározás, út és közlekedési állapot rögzíté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zlekedési rendszerek térinformatikai funkció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Címilleszt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dott koordinátához tartozó utca és házszá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Térképilleszt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dott koordinátához útvonal illeszté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Legkedvezőbb útvonal meghatározá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legrövidebb,vagy leggyorsabb útvonal kiválasztá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a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Útvonaltervez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kiválasztott útvonal követése, kép és hanghatás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ális térképek paraméte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bontás (települések között 1:50 000, belterületen 1:25 000- 1:10 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izálási mód (analóg térképek digitalizálása un. Bittérkép csak 1-2 , vagy vektortérkép mind a 4 funk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atkozási rendszer (GPS átszámítása nemzeti vonatkozási rendszerek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minőség( pontosság és aktualit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4.Térinformatikával foglalkozó hazai szervezet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UNGIS Alapítvány (19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yar Földmérési, Távérzékelési és Térképészeti Társa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yar Földrajzi Társa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yar Urbanisztikai Társa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umann János Számítógéptudományi Társa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5. Rendezvények, kiadványok, folyóir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Rendezvény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zágos Térinformatikai Konferencia (1991 óta, évente Szolnok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rinformatika a felsőoktatásban (1992 óta, Budapes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űszaki Térinformatika (év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Kiadványok, folyóirat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zágos Térinformatikai Kon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rinformatika a felsőoktatásban szimpóz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RINFORMATIKA folyóirat (1989-tő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1. Nézőpontok (szemponto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alkalmazás elsődleges célja( kormányzat,környezetvédelem,közművek,közlekedés, stb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ilvános, nem nyilvá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yenes, téríté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nálló, integrá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a (jelleg, dimenzió, adatsűrűsé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lajdonságadatok( mennyisége, változás sebessé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2. Földügyi Információs rendszerek(Land Information System,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Jellemző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étrehozása állami feladat, szabványok, utasítások, egész országra kiterjedő, elsődleges adatnyerés, nagy pontosság és megbízhatósá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Topográfiai-kartográfiai ren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800"/>
                </a:solidFill>
                <a:latin typeface="Arial"/>
              </a:rPr>
              <a:t>Kataszteri ren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ográfiai-kartográfiai rendszer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natkozási rendszer (geodéziai alappont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ülések és közigazgatási hatá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pül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özlekedési hálózat (út,vasú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zetékek (elektromos,olaj,gáz,távközl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övényzet,t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ízraj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borz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yar Topográfiai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a800"/>
                </a:solidFill>
                <a:latin typeface="Arial"/>
              </a:rPr>
              <a:t>Első lép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TAB10 geometria és tulajdonság torzításm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TAB25 csökkentett tart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a800"/>
                </a:solidFill>
                <a:latin typeface="Arial"/>
              </a:rPr>
              <a:t>Második lép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éretarányfüggő és felhasználó függő tematika DIKABx, ahol x a méretarányt jelö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taszteri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Arial"/>
              </a:rPr>
              <a:t>Funkció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ó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gi (tulajdonviszonyok rögzíté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dasági (ingatlanok adás-véte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szaki (birtokrendezés, mérnöki tervez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Arial"/>
              </a:rPr>
              <a:t>Alapelv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jegyzési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özhitelesség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ilvánosság 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800"/>
                </a:solidFill>
                <a:latin typeface="Arial"/>
              </a:rPr>
              <a:t>Rész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lajdoni 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atlan-nyilvántartási térké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öldköny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irat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AROS (Térkép Alapú Kataszteri Rendszer Országos Számítógépesítése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IR (Budapesti Ingatlan-nyilvántartási Rendszer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ARNET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zeti Kataszteri Program : digitális alaptérképek előállítása a DAT-szabvány sze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5183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3 Közlekedési információs rendszer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a800"/>
                </a:solidFill>
                <a:latin typeface="Arial"/>
              </a:rPr>
              <a:t>Általános jellemz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Útvonal jellege: közút, vasút, vízi, lé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terjedése: egyes járművekre, járművek bizonyos csoportjára (flotta), a közlekedési folyamat egészé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a800"/>
                </a:solidFill>
                <a:latin typeface="Arial"/>
              </a:rPr>
              <a:t>Alkotóeleme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meghatározás (G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mmunikáció ( műholdon alapuló rendszerek, mobiltelefon-rendszerek, digitális közlekedési rádiók és az út mentén elhelyezett rövid hatótávolságú kommunikációs rendszer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6600"/>
                </a:solidFill>
                <a:latin typeface="Arial"/>
              </a:rPr>
              <a:t>Térinformatika, geometriai és attribútum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rányítóköz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6600"/>
                </a:solidFill>
                <a:latin typeface="Arial"/>
              </a:rPr>
              <a:t>3. térinformatika, geometria és attribútumad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ai adatok: csomópontok,magas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ációt segítő adatok: útosztály, haladási irány, sebességkorlát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talános helyek: szállodák,étterm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éladatok: utcanevek, cí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politikai adatok: ország,település,irányítósz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gráfia: folyók,csatornák, vasutak, kerékpáru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ális adatok: golfpálya, horgászhely,uszoda, kamiontermi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6:23:43Z</dcterms:created>
  <dc:creator>varga</dc:creator>
  <dc:description/>
  <dc:language>en-US</dc:language>
  <cp:lastModifiedBy>varga</cp:lastModifiedBy>
  <dcterms:modified xsi:type="dcterms:W3CDTF">2009-11-29T20:11:36Z</dcterms:modified>
  <cp:revision>8</cp:revision>
  <dc:subject/>
  <dc:title>Áttekintés a térinformatika alkalmazásairól</dc:title>
</cp:coreProperties>
</file>